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992-AD6A-45FB-919C-50425778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7F3-C19A-4925-B9F6-FD405713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B92-460B-48C4-AC11-B2A390EC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54E-029E-4B59-B4CB-2BEB22FE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E59-F706-4BC2-A2E2-24554CDF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5AB-E3A5-4BBF-BC83-367F5803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B6C-39CB-4CF2-9AF5-561C2EFE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F60-3ADB-4FE3-8FBF-F77272BF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A31-C424-420B-96CA-8B5E93A7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C8E-3AED-4151-92B4-0324CD5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FB0-AF6A-417A-8A5F-3588CD5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01E-A330-40B0-83D3-71C6CB07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9306-BCA3-4BD6-968E-D445624D0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52280"/>
            <a:ext cx="71625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uice ITC"/>
              </a:rPr>
              <a:t>Commas and Pronouns</a:t>
            </a:r>
            <a:endParaRPr b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uice ITC"/>
              <a:ea typeface="Juice ITC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752480"/>
            <a:ext cx="685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uice ITC"/>
              </a:rPr>
              <a:t>By:  Ashley, Camille, Frannie, Spencer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uice ITC"/>
              <a:ea typeface="Juice IT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038480" y="3200400"/>
            <a:ext cx="85248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uice ITC"/>
              </a:rPr>
              <a:t>5th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uice ITC"/>
              <a:ea typeface="Juic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fornian FB"/>
              </a:rPr>
              <a:t>Answer to Example Thr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fornian FB"/>
              </a:rPr>
              <a:t>Amy and I put a videocassette and a fashion catalog in the time capsu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alifornian FB"/>
              </a:rPr>
              <a:t>Pronoun Rule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fornian FB"/>
              </a:rPr>
              <a:t>A pronoun should agree with its antecedent in number and in gen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alifornian FB"/>
              </a:rPr>
              <a:t>Example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fornian FB"/>
              </a:rPr>
              <a:t>Rudolfo stated his position clear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fornian FB"/>
              </a:rPr>
              <a:t>Maxine has already prepared her acceptance spee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fornian FB"/>
              </a:rPr>
              <a:t>The river overflowed its ban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alifornian FB"/>
              </a:rPr>
              <a:t>Pronoun Rule 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fornian FB"/>
              </a:rPr>
              <a:t>Singular pronouns are used to refer to the following antecedents:  anybody, anyone, anything, each, either, everybody, everyone, everything, neither, nobody, no one, nothing, one, somebody, someone, and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alifornian FB"/>
              </a:rPr>
              <a:t>Example Tw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fornian FB"/>
              </a:rPr>
              <a:t>Fix the pronouns that need to be corrected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fornian FB"/>
              </a:rPr>
              <a:t>No one failed the pop quiz because he or she has done his or her homew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alifornian FB"/>
              </a:rPr>
              <a:t>Answer to Example Tw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fornian FB"/>
              </a:rPr>
              <a:t>Since no one is clearly plural in meaning, the singular pronouns, though grammatically correct, are awkwa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fornian FB"/>
              </a:rPr>
              <a:t>Use no one, they, and the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MT Black"/>
              </a:rPr>
              <a:t>GOOD LUCK ON THE TEST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fornian FB"/>
              </a:rPr>
              <a:t>Comma Rule 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Use a comma before </a:t>
            </a:r>
            <a:r>
              <a:rPr b="1" i="1" lang="en-US" sz="4000" spc="-1" strike="noStrike">
                <a:solidFill>
                  <a:srgbClr val="ffffff"/>
                </a:solidFill>
                <a:latin typeface="Californian FB"/>
              </a:rPr>
              <a:t>and, but, or, nor, for, so, and yet</a:t>
            </a: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 when they join independent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Example One</a:t>
            </a: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fornian FB"/>
              </a:rPr>
              <a:t>Choose which one of these sentences needs a comma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Ashley and I looked everywhere for the sheet music but we couldn’t find i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Ashley and I looked everywhere for the sheet music but couldn’t find i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Answer to Example One</a:t>
            </a: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fornian FB"/>
              </a:rPr>
              <a:t>The sentence that needs the comma is sentence one.  This is because it contains two independent clauses, and the second sentence contains one independent clause with a compound verb.  Make sure that the two phrases that you are joining with a comma can stand al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Comma Rule Two</a:t>
            </a: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Use commas to set off nonessential clauses and nonessential participial phras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fornian FB"/>
              </a:rPr>
              <a:t>Example Tw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fornian FB"/>
              </a:rPr>
              <a:t>Place a comma where needed in these next two sentence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Employee who always have a ready smile make the job seem eas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The Suez Canal extending more than a hundred miles link the Mediterranean Sea and the Red S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fornian FB"/>
              </a:rPr>
              <a:t>Answer to Example Tw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fornian FB"/>
              </a:rPr>
              <a:t>Sentence one doesn’t need any commas!  They are nonessential.  It contains information that is necessary to the meaning of the sent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fornian FB"/>
              </a:rPr>
              <a:t>Sentence two needs a comma after canal and mi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Comma Rule Th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fornian FB"/>
              </a:rPr>
              <a:t>Do not use unnecessary com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Example Th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Correct this sentenc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fornian FB"/>
              </a:rPr>
              <a:t>Amy, and I put a videocassette, and a fashion catalog in the time capsu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7:16:00Z</dcterms:created>
  <dc:creator>User</dc:creator>
  <dc:description/>
  <dc:language>en-US</dc:language>
  <cp:lastModifiedBy>User</cp:lastModifiedBy>
  <dcterms:modified xsi:type="dcterms:W3CDTF">2006-10-10T17:28:23Z</dcterms:modified>
  <cp:revision>3</cp:revision>
  <dc:subject/>
  <dc:title>Slide 1</dc:title>
</cp:coreProperties>
</file>